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3334-0B34-4CE0-9AF9-F68307680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90D9-AF8D-4596-A3A1-24758350225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0E8F-91A1-47EB-AFD1-431B44F56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2092-3B8F-4C67-8B1E-337E3E9B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9F72-8C5B-4EC3-8CF2-9025FB115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81ED-6E16-4464-8DE2-B6E3608A8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6BA7-A251-4628-8216-1EF4A54C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B618-A6F2-4774-B4B3-FEE79379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FC9B-D947-4C00-AEEA-127A780A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B57E-7369-4728-8E3F-C30D2076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896A-1489-4B02-810B-EFF5598A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944A-57FF-4C55-8517-AFCD2746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D50E-38F9-465F-9802-40513859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5703-86EC-436C-BCC5-1FCE92DE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0769-8830-4F73-BC21-15F28776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5FB7-1FB9-4D16-A27B-708C4CAA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9077-A0E6-4918-898A-910139B8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90F8-B372-4DA5-B85F-E39114F74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64AB-9FFE-4E9F-AEEB-AA076A2D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A1FA-9B96-4C4F-8C27-1D2755E8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F153-9D0A-4821-80A2-6FC7ECEE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542B-E4EE-4865-A046-3FF5A69F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F87A-28C1-4205-B228-C596C1F4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56E4-11E0-40A0-9071-167C06A2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EB8B-8BC9-4648-A85D-25E0B461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1F1A-62B4-472A-9E01-B87BC889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7E4E-FA34-437B-A414-9B79D0619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F51F-509D-4AF1-A402-368A5117A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Хиповолемијски шо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657240" y="52574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оц. Др Татјана Вулови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Патофизиолошки поремећај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Verdana"/>
              </a:rPr>
              <a:t>Фаза компензациј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Verdana"/>
              </a:rPr>
              <a:t>Фаза ћелијског дистрес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Verdana"/>
              </a:rPr>
              <a:t>Фаза декомпензациј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Фаза компензациј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Вазодилатација периферних крвних судов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Повећан срчани и минутни волумен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Бронходилатациј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Гликогенолиза у јетр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Хипоперфузија бубрег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Повећана реапсорција Na и воде - повећан венски прилив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Повећана фреквенца дисањ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cc0000"/>
                </a:solidFill>
                <a:latin typeface="Verdana"/>
              </a:rPr>
              <a:t>Фаза компензације клиничка сли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инусна тахикардиј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Брзо и дубоко дисањ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мањење диурез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Хладна и влажна кож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мањење сензорних функциј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Дилатиране зениц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Фаза ћелијског дистрес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црпљивање компензаторних механиза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Ткивна хипоксиј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Затварање посткапиларних сфинктера и отварање а-в шанто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Исхемијска аноксија ћелија - анаеробни метаболизам - метаболичка ацидоз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апиларни притисак расте - интерстицијални еде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мањење венског прилива у срц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ru-RU" sz="3400" spc="-1" strike="noStrike">
                <a:solidFill>
                  <a:srgbClr val="cc0000"/>
                </a:solidFill>
                <a:latin typeface="Verdana"/>
              </a:rPr>
              <a:t>Фаза ћелијског дистреса - клиничка сли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мањен крвни притиса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брзан срчани рад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мањена диурез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брзано дисањ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већани азотни продукти у крв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Фаза декомпензациј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азодилатација прекапиларног сфинктера који су у фази компензације били затворени (посткапиларни сфинктери остају затворени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агли улазак течности и протеина и њихов прелазак у интерстицијални простор кроз оштећену мембран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Аноксија тки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Фокалне некрозе - иреверзибилни шо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Фаза декомпензације - клиничка</a:t>
            </a:r>
            <a:br>
              <a:rPr sz="3400"/>
            </a:b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сли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Дезорјентациј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ериодично дисањ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лаб пулс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ешка хипотензиј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регуларан срчани рад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Ком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Претећи кардиореспираторни застој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езоријентација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ериодично дисање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еома слаб пулс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ешка хипотензија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ом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Промене на органским</a:t>
            </a:r>
            <a:br>
              <a:rPr sz="3400"/>
            </a:b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системим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мањена перфузија ЦНС-а може да доведе до иритације, конвулзија, кортикална депресија, губитак свест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ГИТ- стрес улкус, ерозивни гастритис, крварењ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мањена функција јетре (нарочито детоксикација и синтетска функција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ДИ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Инсуфицијенција бубрег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лућа - интерстицијални едем, интраалвеоларни едем, респираторна инсуфицијенција и АРДС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Хиповолемијски шо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Губитак крв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пољашње крварењ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Траум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рварење из ГИ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Унутрашње крварењ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Губитак плазм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пекотин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Ексфолијативни дерматитис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Губитак течности и електролита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овраћање, дијареја, прекомерно знојење,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анкреатитис, дијабетичка кома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Како изгледа шок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вана (33 године) упућена из ургентне јединице са краш повредом карлице,хематомом десне половине трбушног зида. Очуване свести, али летаргична, контакт се успоставља само на име. ТА 80/46, пулс 116/мин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Дг. Прелом карличних костију, лацерација јетр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Хиповолемијски шо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јчешћа форма хиповолемијског шока код хируршких болесника је хеморагијски шо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Узроци шо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елом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вреде грудног кош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вреде абдомен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вреде ретроперитонеум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омпартмани (мишићи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Клинички знац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ХИПОПЕРФУЗИЈА МОЗГ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Церебрална ауторегулациј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здражљивос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глад за ваздухом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тупор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ома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Клинички знац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ОЖ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леда (пепељасто сива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арморизована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лажн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хладн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Клиничка сл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Тахикардија (катехоламини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Бледило кож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онфузија и кома (церебрална хипоксија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Тахипн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ја (хипоксија и ацидоза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Жеђ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мањена диурез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а основу клиничке слике четири степена хеморагијског шок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533520" y="762120"/>
          <a:ext cx="8164440" cy="6132240"/>
        </p:xfrm>
        <a:graphic>
          <a:graphicData uri="http://schemas.openxmlformats.org/drawingml/2006/table">
            <a:tbl>
              <a:tblPr/>
              <a:tblGrid>
                <a:gridCol w="1633320"/>
                <a:gridCol w="1633680"/>
                <a:gridCol w="1630440"/>
                <a:gridCol w="1633320"/>
                <a:gridCol w="1633680"/>
              </a:tblGrid>
              <a:tr h="77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Helvetica-Bold"/>
                        </a:rPr>
                        <a:t>Stepen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Helvetica-Bold"/>
                        </a:rPr>
                        <a:t>Stepen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Helvetica-Bold"/>
                        </a:rPr>
                        <a:t>Stepen II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Helvetica-Bold"/>
                        </a:rPr>
                        <a:t>Stepen 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</a:tr>
              <a:tr h="106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ubitak kr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-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0-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-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-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-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gt;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gt;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</a:tr>
              <a:tr h="77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 disa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hipno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hipno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gt;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/ mi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lo ubrz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-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liform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gt;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oma sl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</a:tr>
              <a:tr h="76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st. 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</a:tr>
              <a:tr h="77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ure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gt;30 ml/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-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-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tal.s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emeć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ksioznot i agresivn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sves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onfuz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targija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ubi sv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2900"/>
                    </a:solidFill>
                  </a:tcPr>
                </a:tc>
              </a:tr>
            </a:tbl>
          </a:graphicData>
        </a:graphic>
      </p:graphicFrame>
      <p:sp>
        <p:nvSpPr>
          <p:cNvPr id="140" name="AutoShape 174"/>
          <p:cNvSpPr/>
          <p:nvPr/>
        </p:nvSpPr>
        <p:spPr>
          <a:xfrm>
            <a:off x="6019920" y="4572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AutoShape 175"/>
          <p:cNvSpPr/>
          <p:nvPr/>
        </p:nvSpPr>
        <p:spPr>
          <a:xfrm>
            <a:off x="7467480" y="4572000"/>
            <a:ext cx="844560" cy="976320"/>
          </a:xfrm>
          <a:prstGeom prst="downArrow">
            <a:avLst>
              <a:gd name="adj1" fmla="val 50000"/>
              <a:gd name="adj2" fmla="val 289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178"/>
          <p:cNvSpPr/>
          <p:nvPr/>
        </p:nvSpPr>
        <p:spPr>
          <a:xfrm>
            <a:off x="0" y="0"/>
            <a:ext cx="25909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*ATLS; 2004. 70kg muškara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ВАЖНО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Често јасна етиологија шок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Брзо препознавање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ТА и Фр нису поуздан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Тек након губитка 1/3 циркулишућег волумена јавља се хипотензиј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Фр/Сис. ТА је бољи индикатор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ормално је мање од 0,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Диуреза је одличан показатељ, али је потребно време</a:t>
            </a:r>
            <a:r>
              <a:rPr b="0" lang="sr-Latn-C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Нормална &gt;1.0 ml/kg/h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Базни дефицит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005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клонити узрок шо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ике пивремене хемостаз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рапија хипоперфузије виталних орга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390384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Прехоспитална нег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оментална евакуација до хируршке институције након обезбеђивања дисајног пута и респирациј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е губити време на лицу места у покушају обезбеђивања венског пут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ешка канулација периферних вена у шок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cc0000"/>
                </a:solidFill>
                <a:latin typeface="Verdana"/>
              </a:rPr>
              <a:t>Хоспитално збрињавање </a:t>
            </a:r>
            <a:br>
              <a:rPr sz="3400"/>
            </a:br>
            <a:r>
              <a:rPr b="0" lang="sr-CS" sz="3400" spc="-1" strike="noStrike">
                <a:solidFill>
                  <a:srgbClr val="cc0000"/>
                </a:solidFill>
                <a:latin typeface="Verdana"/>
              </a:rPr>
              <a:t>мониторинг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Фр респирациј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Ф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Т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ЦВП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апиларно пуњењ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Хематокри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атна диурез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ЕКГ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атурација кисеоника- пулсни оксимета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апногафиј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Ментални статус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Како изгледа шок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ера (86 година), анамнестички фебрилна уназад недељу дана. Смањен апетит, измењен ментални статус. Има трајни уринарни катетер, урин тамно пребојен, непријатног мирис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Дг. Сепса као последица инфекције уринарног тракт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Verdana"/>
              </a:rPr>
              <a:t>Хемодинамски мониторинг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Verdana"/>
              </a:rPr>
              <a:t>неинвазивни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 (NIBP, EKG, 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пулс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, T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Verdana"/>
              </a:rPr>
              <a:t>инвазивни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(ART, CVP, PCWP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Артеријски крвни притиса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ије добар дијагностички параметар, нарочито у компензаторној фази шо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Хипотензија пак обично представља слом компензаторних механизама и представља знак смањења прелоада и поред симпатичке стимулациј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след снажне вазоконстрикције притисак може бити нормалан и поред губитка 15-25% циркулишућег волумен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Verdana"/>
              </a:rPr>
              <a:t>НЕИНВАЗИВНО МЕРЕЊЕ АРТЕРИЈСКОГ</a:t>
            </a:r>
            <a:br>
              <a:rPr sz="2400"/>
            </a:br>
            <a:r>
              <a:rPr b="0" lang="ru-RU" sz="2400" spc="-1" strike="noStrike">
                <a:solidFill>
                  <a:srgbClr val="cc0000"/>
                </a:solidFill>
                <a:latin typeface="Verdana"/>
              </a:rPr>
              <a:t>КРВНОГ ПРИТИС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тпуно непоуздана метода процене хемодинамског стауса пацијената у шок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ило аускултаторна било осцилоскопска не даје тачна мерења код јако изражене вазоконстрикције и хипотензиј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ускултаторно мерење може указивати на вредности и до 30 мм Хг мање од оних добијених директним мерењем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Verdana"/>
              </a:rPr>
              <a:t>ИНВАЗИВНО МЕРЕЊЕ АРТЕРИЈСКОГ</a:t>
            </a:r>
            <a:br>
              <a:rPr sz="2400"/>
            </a:br>
            <a:r>
              <a:rPr b="0" lang="ru-RU" sz="2400" spc="-1" strike="noStrike">
                <a:solidFill>
                  <a:srgbClr val="cc0000"/>
                </a:solidFill>
                <a:latin typeface="Verdana"/>
              </a:rPr>
              <a:t>КРВНОГ ПРИТИСК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Добија се пласирањем катетера у артерију радиалис (најчешће) или артерију брахиалис (ређе) и инсталирањем сета који механичку енергију - притисак претвара у електрични сигна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Додатна погодност је што се из артеријске линије могу и често узимати гасне анализе артеријске крв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Централни венски притиса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обија се након пласирања катетера у горњу шупљу вену канулацијом вене југуларис интерне или вене субклавиј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сим за процену хемодинамике служи као додатна линија за ординирање течности и крви, али и за узимање узорака крви за анализ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Централни венски притиса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ормалан ЦВП код пацијената износ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5-10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m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Н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араметар за процену хидрираности пацијената у шок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Диурез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стављање уринарног катетера осносвно је код пацијената у шок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лигурију у одсуству претходне реналне патологије треба посматрати као знак неадекватне перфузиј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Изабрати течност за надокнаду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7295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ристалоидни раствор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олоидни раствор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рв и дериват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Кристалоид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Губитак у трећи простор у интерстицију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авило 3:1 кристалоида за 1 мл крв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ТЛС препорука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: 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кристалоида ив за рани третман хеморагијског шок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јбољи Рингер лактат-најсличнији ЕЦ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5% Глу не употребљавати у реанимациј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Колоид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66640" y="1752480"/>
          <a:ext cx="8001000" cy="4849920"/>
        </p:xfrm>
        <a:graphic>
          <a:graphicData uri="http://schemas.openxmlformats.org/drawingml/2006/table">
            <a:tbl>
              <a:tblPr/>
              <a:tblGrid>
                <a:gridCol w="1760760"/>
                <a:gridCol w="1439640"/>
                <a:gridCol w="1600200"/>
                <a:gridCol w="1600200"/>
                <a:gridCol w="1600200"/>
              </a:tblGrid>
              <a:tr h="106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itial v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dalto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mmH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lf li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% albu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% albu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xtr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12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tast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ntast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2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ntaf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2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Како изгледа шок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илан (54 године) у личној анамнези последњих 6 година се лечи од хипертензије и дислипидемије. Хоспитализован због изненадних јаких болова иза грудне кости, без свести, филиформног пулса, агоналног дисањ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Дг. АИ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Колоид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њи волуме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њи плућни ед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таје у интраваскуларном простор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ржи повратак нормалне хемодинамик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аки за складиштењ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нтио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кс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дантни и антиинфламаторни ефек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cc0000"/>
                </a:solidFill>
                <a:latin typeface="Verdana"/>
              </a:rPr>
              <a:t>Колоиди </a:t>
            </a: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- </a:t>
            </a:r>
            <a:r>
              <a:rPr b="0" lang="sr-CS" sz="2800" spc="-1" strike="noStrike">
                <a:solidFill>
                  <a:srgbClr val="cc0000"/>
                </a:solidFill>
                <a:latin typeface="Verdana"/>
              </a:rPr>
              <a:t>недостац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рансмисивне болест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већавају крварењ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еакције хиперсензитивност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нсуфицијенција бубрег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Цен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Колоид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страживањ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ећина студија показује да не доводе до смањења морталите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исока цен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тинска употреба се не препоручује болесницима у траум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оже користити код сепсе, 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AR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Недостаци крв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Це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решка у компатибил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огрешна крвна гр.-1:40,000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мрт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1:2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000000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мунолошке компликациј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:40,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нфекци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епса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1:500,000 (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Ер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) 1:50,000 (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Тр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Хеп Б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1:250,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Хеп Ц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&amp;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ХИВ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1: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20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Услови складиштењ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оксичност цитра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Хипокалцеми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Хиперкалијемиј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Динамика надокнаде</a:t>
            </a:r>
            <a:br>
              <a:rPr sz="2800"/>
            </a:b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циркулаторног волумен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ависи од фазе шо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четне фаза - кристалоид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руга фаза - колоид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рећа фаза - кр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Оксигенотерапиј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већана потреба ткива за кисеонико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олазност дисајних путев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ерење сатурације преко пулсног оксимет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еко назалних канила О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еханичка вентилациј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Медикаментозна потпора циркулације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58"/>
          <p:cNvSpPr/>
          <p:nvPr/>
        </p:nvSpPr>
        <p:spPr>
          <a:xfrm>
            <a:off x="762120" y="1843200"/>
            <a:ext cx="7346880" cy="39888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Le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Recepto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O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SVR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Do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z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55640" y="2421000"/>
          <a:ext cx="7488360" cy="3381480"/>
        </p:xfrm>
        <a:graphic>
          <a:graphicData uri="http://schemas.openxmlformats.org/drawingml/2006/table">
            <a:tbl>
              <a:tblPr/>
              <a:tblGrid>
                <a:gridCol w="2109960"/>
                <a:gridCol w="2043000"/>
                <a:gridCol w="681120"/>
                <a:gridCol w="749160"/>
                <a:gridCol w="1905120"/>
              </a:tblGrid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pinephr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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02 – 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</a:tr>
              <a:tr h="70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repinephr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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05 – 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opa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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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 -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obuta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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 -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opexa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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9 -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asopress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giotensin 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 -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ff"/>
                        </a:gs>
                        <a:gs pos="100000">
                          <a:srgbClr val="ae1517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88" name="Text Box 83"/>
          <p:cNvSpPr/>
          <p:nvPr/>
        </p:nvSpPr>
        <p:spPr>
          <a:xfrm>
            <a:off x="6516720" y="5805360"/>
            <a:ext cx="2076480" cy="39888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ae15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g/kg/mi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Остала терапиј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ориговање ацидобазних поремећаја (ацидоза је негативни инотроп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Лечење олигуриј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отпора контрактилности срца (инотропни лекови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Аналгезија и седација (важна код трауме и опекотина) - ОПРЕЗ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Антибиотска трапиј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172200" y="5410080"/>
            <a:ext cx="2666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Хвала на пажњ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Шта имају заједничко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ри различита болесни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ри различите дијагноз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ри различите етиологиј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c0000"/>
                </a:solidFill>
                <a:latin typeface="Verdana"/>
              </a:rPr>
              <a:t>Шо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Шок је процес који има за последицу гашење функција свих органских система систематичним редоследо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реме које је потребно да се шок развије кроз све своје фазе варира од пацијента до пацијент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 вези је са здравственим статусом и способношћу организма да компензује поремећај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Како се шок развија, процес се убрзав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Циркулаторни систем није у стању да обезбеди адекватну количину крви ткивима, ћелијска хипоксија и смр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Дефиниција шо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мањена перфузија виталних органа са неадекватном испоруком кисеоника ткивим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ремећаји у шоку су динамични - стална промена клиничке слик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Целуларни ниво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мањена количина кисеоника у митохондријам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Анаеробна гликолиза АТП-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етаболичка ацидоз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cc0000"/>
                </a:solidFill>
                <a:latin typeface="Verdana"/>
              </a:rPr>
              <a:t>Класификација шо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достаје општеприхваћена подел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ема етиологији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Хиповолемијски шо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рдиогени шо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структивни шо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истрибутивни шо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13880" y="1823760"/>
            <a:ext cx="773748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Verdana"/>
              </a:rPr>
              <a:t>Хиповолемијски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крвављење, тешке опекотине, губитак плазме и течности у трећи простор (панкреатитис, илеус), високопродуктивне фистуле, губитици течности преко гастроинтестиналног тракта (дијареја, вомитус), губтици преко уринарног тракта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Verdana"/>
              </a:rPr>
              <a:t>Кардиогени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500" spc="-1" strike="noStrike">
                <a:solidFill>
                  <a:srgbClr val="cc0000"/>
                </a:solidFill>
                <a:latin typeface="Verdana"/>
              </a:rPr>
              <a:t>  </a:t>
            </a:r>
            <a:r>
              <a:rPr b="1" lang="en-US" sz="1500" spc="-1" strike="noStrike">
                <a:solidFill>
                  <a:srgbClr val="cc0000"/>
                </a:solidFill>
                <a:latin typeface="Verdana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инфаркт миокарда, миокардитис, декомпензација код миокардиопатије..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Verdana"/>
              </a:rPr>
              <a:t>Опструктивн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тампонада срца, масивна плућна емболија, тензиони пнеумоторакс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Verdana"/>
              </a:rPr>
              <a:t>Дистрибутивни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септички шок,анафилактични шок,неуроген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Verdana"/>
              </a:rPr>
              <a:t>Цитотоксичн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интоксикација цијанидима, интоксикација угљен моноксидом, тешка сепс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jana</cp:lastModifiedBy>
  <dcterms:modified xsi:type="dcterms:W3CDTF">2014-06-09T10:19:52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